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36.jpeg" ContentType="image/jpeg"/>
  <Override PartName="/ppt/media/image40.png" ContentType="image/png"/>
  <Override PartName="/ppt/media/image9.jpeg" ContentType="image/jpeg"/>
  <Override PartName="/ppt/media/image13.png" ContentType="image/png"/>
  <Override PartName="/ppt/media/image37.jpeg" ContentType="image/jpeg"/>
  <Override PartName="/ppt/media/image38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8.jpeg" ContentType="image/jpeg"/>
  <Override PartName="/ppt/media/image39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  <p:sldId id="271" r:id="rId77"/>
    <p:sldId id="272" r:id="rId78"/>
    <p:sldId id="273" r:id="rId79"/>
    <p:sldId id="274" r:id="rId80"/>
    <p:sldId id="275" r:id="rId81"/>
    <p:sldId id="276" r:id="rId82"/>
    <p:sldId id="277" r:id="rId83"/>
    <p:sldId id="278" r:id="rId84"/>
    <p:sldId id="279" r:id="rId85"/>
    <p:sldId id="280" r:id="rId86"/>
    <p:sldId id="281" r:id="rId87"/>
    <p:sldId id="282" r:id="rId88"/>
    <p:sldId id="283" r:id="rId89"/>
    <p:sldId id="284" r:id="rId90"/>
    <p:sldId id="285" r:id="rId91"/>
    <p:sldId id="286" r:id="rId92"/>
    <p:sldId id="287" r:id="rId93"/>
    <p:sldId id="288" r:id="rId94"/>
    <p:sldId id="289" r:id="rId95"/>
    <p:sldId id="290" r:id="rId96"/>
    <p:sldId id="291" r:id="rId97"/>
    <p:sldId id="292" r:id="rId98"/>
    <p:sldId id="293" r:id="rId99"/>
    <p:sldId id="294" r:id="rId100"/>
    <p:sldId id="295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slide" Target="slides/slide16.xml"/><Relationship Id="rId78" Type="http://schemas.openxmlformats.org/officeDocument/2006/relationships/slide" Target="slides/slide17.xml"/><Relationship Id="rId79" Type="http://schemas.openxmlformats.org/officeDocument/2006/relationships/slide" Target="slides/slide18.xml"/><Relationship Id="rId80" Type="http://schemas.openxmlformats.org/officeDocument/2006/relationships/slide" Target="slides/slide19.xml"/><Relationship Id="rId81" Type="http://schemas.openxmlformats.org/officeDocument/2006/relationships/slide" Target="slides/slide20.xml"/><Relationship Id="rId82" Type="http://schemas.openxmlformats.org/officeDocument/2006/relationships/slide" Target="slides/slide21.xml"/><Relationship Id="rId83" Type="http://schemas.openxmlformats.org/officeDocument/2006/relationships/slide" Target="slides/slide22.xml"/><Relationship Id="rId84" Type="http://schemas.openxmlformats.org/officeDocument/2006/relationships/slide" Target="slides/slide23.xml"/><Relationship Id="rId85" Type="http://schemas.openxmlformats.org/officeDocument/2006/relationships/slide" Target="slides/slide24.xml"/><Relationship Id="rId86" Type="http://schemas.openxmlformats.org/officeDocument/2006/relationships/slide" Target="slides/slide25.xml"/><Relationship Id="rId87" Type="http://schemas.openxmlformats.org/officeDocument/2006/relationships/slide" Target="slides/slide26.xml"/><Relationship Id="rId88" Type="http://schemas.openxmlformats.org/officeDocument/2006/relationships/slide" Target="slides/slide27.xml"/><Relationship Id="rId89" Type="http://schemas.openxmlformats.org/officeDocument/2006/relationships/slide" Target="slides/slide28.xml"/><Relationship Id="rId90" Type="http://schemas.openxmlformats.org/officeDocument/2006/relationships/slide" Target="slides/slide29.xml"/><Relationship Id="rId91" Type="http://schemas.openxmlformats.org/officeDocument/2006/relationships/slide" Target="slides/slide30.xml"/><Relationship Id="rId92" Type="http://schemas.openxmlformats.org/officeDocument/2006/relationships/slide" Target="slides/slide31.xml"/><Relationship Id="rId93" Type="http://schemas.openxmlformats.org/officeDocument/2006/relationships/slide" Target="slides/slide32.xml"/><Relationship Id="rId94" Type="http://schemas.openxmlformats.org/officeDocument/2006/relationships/slide" Target="slides/slide33.xml"/><Relationship Id="rId95" Type="http://schemas.openxmlformats.org/officeDocument/2006/relationships/slide" Target="slides/slide34.xml"/><Relationship Id="rId96" Type="http://schemas.openxmlformats.org/officeDocument/2006/relationships/slide" Target="slides/slide35.xml"/><Relationship Id="rId97" Type="http://schemas.openxmlformats.org/officeDocument/2006/relationships/slide" Target="slides/slide36.xml"/><Relationship Id="rId98" Type="http://schemas.openxmlformats.org/officeDocument/2006/relationships/slide" Target="slides/slide37.xml"/><Relationship Id="rId99" Type="http://schemas.openxmlformats.org/officeDocument/2006/relationships/slide" Target="slides/slide38.xml"/><Relationship Id="rId100" Type="http://schemas.openxmlformats.org/officeDocument/2006/relationships/slide" Target="slides/slide39.xml"/><Relationship Id="rId101" Type="http://schemas.openxmlformats.org/officeDocument/2006/relationships/slide" Target="slides/slide40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F14-A42A-4D8C-8025-7607DC2C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CC8-7CA9-4D45-8C6D-0C2293F7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53088-50FD-4308-A204-732A1516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0EBFF-874E-4AC6-B42D-92D6450F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874A7-0C2C-44D8-813F-A659E106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802B0-5464-487D-8065-7269756B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131F8-EBF4-4B73-BA8B-02919597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F1184-5ADA-471C-8C93-DC7579B4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B2468-E631-4D2D-909A-DA7AE086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48BB5-D1FD-43EC-BDB3-B01866FB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59B8C-F0BE-4E20-AE3A-E53F1AF7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27FD2-54BD-4FD7-998F-93F08B6E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62D-1E45-4AA8-B897-3F4BC3F9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F3323-B7F7-4B87-A855-6469DCD0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59D3A-EFA5-4F74-80D6-F26DDD96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E31E9-E6D2-4DA0-B573-9F2A3807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B2BFF-9738-4684-8FAA-256447A1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30F37-3B19-4256-BFF7-0085F1C6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CF259-EA48-44A3-8ADD-2EAC2BB8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9DF15-125F-4199-BA1C-7F62A375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5A116-BF46-4EF5-9966-BA269F01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4FE8E-A0B4-4AD4-9697-C8E02612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004FD-97DD-4B4B-AB86-7600AE33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2CD-7D7B-4808-931D-A5BF6AAD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2C824-7A00-41B7-A67A-EE89A8F4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7A4BA-2B5E-4D0D-A488-AB36F1C8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7350F-737E-4C72-A8C0-57407EA6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B37D7-8CCB-4BA6-B476-7C97D44C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2B3A4-6BBD-4254-AA68-DCDA8A28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46C56-26E9-4AC6-ABFB-910A00B1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C9BAA-D568-4C8F-86D5-9DD6CB74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122C7-E16F-4EDD-9901-0C152DE3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298C4-9EDE-40C3-995E-10B4012F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DAB0B-7A1C-4D3B-9B60-B92D072C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258E-D958-40FC-874C-4B83954B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09379-5CB0-4079-BC08-6BA47EFA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72B06-54F3-4E96-852F-18C50751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4288A-BFDB-43F9-BCD8-7D682F2A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9C168-5BCF-46D1-AA30-29092E46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CD8A1-8CEF-4852-8047-0E165BFA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2372E-1D09-407B-B6C1-7BAC712A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2A672-C6BD-4DF8-90CE-4EFE0135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82052-1C75-4645-A52A-575323F9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9BAB1-F801-41EF-9A4E-3C641705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565EE-26C3-4935-8C1B-24AAF92E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EE02-C04B-4F9E-8C2B-4727E54A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B006E-80DB-4D54-9CB1-C25CB72C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9C0B3-6961-4814-A8C3-B965175F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32E26-0D00-4C1A-8992-D8B8173C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48BFC-B3B5-4C75-A813-78C8CFA5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810D8-E776-4CFB-8148-4F9683D6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9B4EB-40C9-4C8C-BEE3-2E99D8B2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6843C-E038-4314-A0CC-48DA8B12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BD578-588F-4EAA-9CA2-BB6E1706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5DACB5-786B-4617-BFB8-40DC2778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E6110-6A8C-462B-B704-15F22753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5DA9-205D-498F-9516-80737A14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A3350-1D58-4C18-98EB-8797EDF3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B821E-486E-4786-9D27-1D0AC2BA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2B58B-E833-4B51-90F6-1C6EFEBC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942FB-2463-4034-B608-7097F939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8E399-A528-48EB-B424-3BCEB141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BCFA2-46C9-4E01-AD1D-1A020E59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70A97-3111-4A01-B5DF-C5DB8E4D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EF004-7CD7-4EF2-BCA1-78D2C545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576A9-9D5E-4842-B3DA-F7D5B3D8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9544F-B126-45E3-A54A-600F3BAC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1194-A6C8-4F83-9808-D698DAC4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64DFA-27DF-4BAA-9865-F190D8C3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2467B0-3558-4F46-94CC-FD66EEC6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9EED3-633D-4F6D-A060-BEBBA402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2BCC3-60CE-40C5-BAD0-E995024C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063420-3F96-4345-8F21-1C6AAD99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7586F8-CECD-4F67-8552-5E62A84D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3424F-B176-4B73-AEA9-735CA4B7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0517F-753A-4DE4-B693-6F6F4FE1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254F6-8795-4EAD-8F7A-650CB685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098B7-0F32-4439-B78D-7AE08EB8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BA99-1A8A-4B92-90C7-86E0CA19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7065D5-A812-45BB-A465-D67DE061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2551C-A7CD-446B-8C8A-5BE640AF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F8861F-42C6-4C75-AD3B-183492EC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D5169E-8C3C-4DD3-AE10-80F35BE0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B10F43-52E4-4F52-8281-136DF77B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8F0B1-2D63-4AF4-AC37-2C32FBE3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81D3A6-3710-4AFE-9B56-4149A734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19C5F8-897A-474E-884A-295823BE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14EFA-446B-4C7D-BBF0-6225CA91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44CBD-4E23-4A6B-BB2F-7C3B0D57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C5A9-DE48-4E01-BEB5-D44699F8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3C000-9869-4192-B0E1-D2107156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813DA-81F2-450A-9BB4-208A8017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64D149-8F91-4057-90DC-9A04ABBC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744F50-480E-470C-B236-F76861DC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87F3D5-1211-4A72-A700-2908029E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7CB8AE-CE79-4339-BEB2-5A993465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2FE71-8B5E-4EB4-A290-5180FCEA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96E92-1F90-403A-AD25-2F6E1968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35B313-DECA-4633-B221-73C431C6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244F21-A83B-4954-AB36-7A8E54EB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C5D3-9C40-4C1A-AB55-E9C720D1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7312C-1C19-4A36-9A28-0D4425C9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AF112-3150-48CB-B5D9-BB36F3A1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46D991-25CF-43FD-94FF-6E2B2607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30AE4E-9F20-47B3-942B-E7A1B9E9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308579-B0B1-4F85-B846-BA8EEB1A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95BDAA-D8E0-4F22-A469-76B49EC2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0F117D-3D01-45B2-A8D9-109FC8E7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032162-06F5-4269-80DF-B0D82514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A99B85-CE14-44AA-84B0-DC2249E1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8C1274-A978-4620-AEEA-D241D121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61D-9BB2-4992-848B-154E3375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5C1C-B214-4125-8E9B-E002CF88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30A59F-BBAD-47DB-A499-5229C5F2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5668B5-CB14-4D6E-A734-29BC80BB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D3AD09-91DD-48FB-8C4C-179FBB82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E18EEA-7353-43B0-BA5F-90B7CEA2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3CE295-811B-4970-AAE8-2EE877B2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FCD2F3-F05F-4D91-835C-56D7E6B2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05238-87C1-4C0F-853D-BA18EA88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2744B4-E1A1-4EA0-824B-89DF08DE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3C7262-B548-4666-B6AA-08A19B04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D8F16A-1CDE-4E80-9D48-ED6BEB51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0875-C28F-4B68-B938-42835B59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0057AC-D245-4301-BC0D-91682E27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2B4952-EEF2-4BBD-9DA8-BBAA78F2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221780-2F75-462D-AB75-7A6653BF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9DD9F5-2E97-43BC-B2BB-AA9E8C2B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71A49-EB49-4938-A962-AE2A093E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0D97A3-5272-4E9E-B953-87068E37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5E98D2-995F-42E6-8EBE-23EB4F8B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3D94F0-DD49-4A24-82B5-E6035501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13B33B-61FA-4F54-95E5-ADF33CEA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5890F9-00CF-4A33-ABC7-78601124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713D-F275-4EE0-AFE6-D5157D17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EF88EF-A285-4426-814A-0151FB02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B0199D-79BB-4EEF-A4E2-6985C653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6275FE-08F0-4219-B752-93C779CB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3BE74F-A17B-461E-ABDA-3EA6C46F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46184F-9541-40FC-B957-7AA6231B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68B8AA-9CEA-44C6-9554-B03A9655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707400-66F4-432E-8981-D93334E5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786337-9068-4D0C-AB91-072EA200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3F2354-A319-4346-BA9A-F5DD7A86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AA57E7-71EC-4E9B-AB89-6069A5F6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92A6-6D33-4B4B-99B6-AAD34CD3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C32C37-C0AD-446B-ACEF-DF042F76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D96450-0CFD-4024-9CA5-2FA23114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521CE0-B52D-4CF1-A0A8-D42537D8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822E6F-677D-4B4D-BECA-0C8BEF21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30D0EE-FEC2-478A-A20A-747D7D38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ED35B7-F5FD-4290-9CA9-9BB045F0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C29D93-20CB-43BA-905A-AD30C75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7FAC30-16EE-4734-8848-0EE6319C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A081F9-E00A-4CC5-807E-A477AEFA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32360D-4248-4075-9544-67E31BCB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D015-61C0-4ED0-A743-739A56E6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E05CD0-3B93-4240-9CEF-369DDC4B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F9459C-6F55-4593-BE5D-60BA782B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970598-EB6A-4E92-B0C8-9C14E85E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0FAF24-3A6D-4450-B264-8B23D159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160649-2EDB-473A-97CF-64AB31BC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502076-66B0-467E-8D5C-2CB2DFC0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AF2A72-EAB6-4FDD-BA4F-F045D8ED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E55F13-0AC4-43CA-BB92-BD459C7D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97A521-598B-45E6-8760-4BA189CD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F14C4-B088-423F-BA88-84B491B0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D640C-C824-44F5-9285-D88F239A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B4B536-E94F-4BE0-BD90-BC38C66C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7E6FB8-2B75-4E6F-9784-9EC9D7DC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4C4C3E-624D-49FF-96E5-BC04A9BB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2D656A-214E-4267-A5F1-35F47BAD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2FBA2F-CDC7-4141-8782-0F4F9A21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AF325D-EF44-41D5-95B5-C46E27C1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D7B124-1B5C-4D87-99DD-DA379B48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192202-EFA0-4A91-8F39-3DC63D7C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E96EE3-CEFB-4C5D-A7C7-2A3BF678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C482D6-A85F-4D2C-B54B-8A166D94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F80E-5F11-457C-AA4C-E3F6F452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E3B6B2-BF33-4F9C-813C-F62C53C3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5925AC-5514-4BED-802E-8D215D5E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D1B696-DA48-4469-AFD6-2E2D8A0E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1DA55A-169E-4DC4-A991-B8D4F006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FEBD18-6F35-44BD-AC29-E2F7C47B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C2A6F3-E49C-4AE7-AD8E-CB8B74D0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8F7AC6-25DB-49E7-843C-1D55223E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3CD351-5410-4D82-BFA9-B56B6A35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B612ED-7CB1-458A-835F-0AAB98FF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E6DDA1-9311-4FB3-9E25-8963DC62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07B3A-4AAE-4592-8033-7A8B0FFB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D6B681-46E8-44CD-A0D4-A92F2641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9B9ABC-7BBA-4FFD-9B18-8C7E6680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6A92E6-F710-4BBD-BA1E-2809DE30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B24307-689A-410C-966C-76B3E7B1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0CDE03-E097-4F24-86EA-83D03074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D47322-A797-41AB-BFE2-0EF39CBB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5ABDFB-5F65-44FD-9A97-24FF4D49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3D3BC0-C3E8-48DE-A90A-75A05B88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468E17-9ABD-46A6-9CA9-6F067369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596C3D-8BCA-45DF-BB23-455F3005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634B7-BCFE-481C-B7FC-B5EFCED2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281BD5-8D7D-497E-92DF-1542E64D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C09512-B717-4C0E-8B35-FC00A389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A60520-2DA4-4AAD-A505-AC992F8F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6C0300-A177-458A-B110-FC9D196E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F4588F-654D-4C23-843A-C62995C3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9A5DDF-FAEE-4521-B2A0-E813295D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281250-F2F9-4CC4-ACF9-4427BD72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651AD2-BE1A-46DD-A5E1-954671C1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AA0463-78AA-4B6C-9D9D-6F41EAC6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204CCE-1C68-47B5-9982-122F00B0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43C0-A1EB-4F5C-BB34-023A17EC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78ECBF-21BB-40CC-A2ED-2FAA731E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B92C6A-DF62-4680-B366-49C0B335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F47B47-D339-4749-B9CF-F4D2F9DF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FA0322-5B3C-420D-A273-9CD7EF49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C11FF2-DD74-4C95-A4F5-CC33B306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72563A-C1D0-444F-A9FC-161B0D1F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6CCA88-9A3A-4703-B787-4350E176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F1F148-E21D-4444-BCFD-E26A4EA2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B178B4-80FF-4F3E-856F-A313A845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C91EC1-FB6C-4C8D-9521-F65F925E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274-B634-46B9-8AAC-E40BFF49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500FA-DCA2-444E-B479-B03319A6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E0878B-CF33-4643-82BC-A8F9D1B1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41C4C6-6ED3-4E9D-AD16-705A6230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253722-3248-46B3-8185-7C86B052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EA7646-90D5-48DF-8089-6B48D261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289BB8-2C18-44A4-8CA5-C9313BC7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81B3FF-83DD-4FD9-BEF1-8DCD12EC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B9F29C-0E92-4C7E-9DC8-896D6087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373D91-8FBA-4A40-B8A9-66177D48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0F7515-E97C-473F-B85B-7B6D8639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7946E7-43BF-4239-9FC6-AB205A3B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528B1-A809-4930-89B1-5A90A997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03CF44-B9FF-4F5C-A09D-003E90DC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17799C-78FF-484A-9390-2B675A8B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23C251-1041-4E75-B0FE-CC776E74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CF70E8-1184-4A22-98B7-9E4E44D5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B05692-3DC6-41A8-951D-A31080E0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92DE16-8BA0-4A5F-AD0E-81A23BF2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FE52AF-AF17-4326-AEAF-B12A5A41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735985-376E-4D6E-8ED6-F3D010B6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FCBD82-62E2-45A2-AD2E-013CDCEB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D157FB-1BBA-4C2F-91E7-C9911248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35F35-532C-469F-B074-13DA9662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A2CC45-0AEA-48EF-A269-67B3B413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4BEB6E-C91D-4F20-9FCE-8F4C640D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F91F46-F3A2-4B87-BE80-39552D16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FA1835-8934-421D-B3A6-8FC7A334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30B61F-B83D-4F9C-A674-643B0006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32EECA-6DDB-4FAB-A8CD-E6612348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FF8EB4-4F0A-4E98-ABF9-EC53F403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3DEE78-336F-43D8-92DE-90376189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578954-A6D7-43DE-8A88-BCFA601B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A774B7-6FCC-481F-B6DF-8109FACF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475B-22F1-49B3-8899-A0CD7083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9A457F-6F4E-40BD-A48B-C14E9CF9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DB8D37-99A7-4E46-83AE-91532219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C036BA-8457-4AF5-B6C5-506504E9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2E6743-26D6-4835-B1C9-AD2CE030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91974B-787C-4BA1-941C-EEEF37A5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60BF58-D5E8-46F2-8574-186EA71D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F9C7A4-B137-454E-9244-0791C951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6CD340-F995-4FB1-8F00-96A24C5D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78B0A2-13FC-4630-97B8-5E1006AB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2EBF1D-5571-4D55-9E05-456A9055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B5EFB-7EE3-46A5-BF1B-63288EBB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AA8F48-9B48-41B5-A937-6A73D3F8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ECADD5-D269-498C-8A4C-BDE4567F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9F9A73-F7A3-4F0D-A103-FF80CCFA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4914AB-9C33-4C8D-A4E0-51D09E55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85AED5-E221-414B-9708-CD4A4C8E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970424-45A2-407B-9FC5-672F42AA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C2B2EC-1352-4EF8-9208-8DF347B3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ECB09C-6A5A-41A8-89D9-5DAE7627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18BECB-EA86-4E91-90BD-AA70B92A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B00D64-5458-4DA7-BDA1-5B65B419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F0C89-29B3-4747-A45E-20E27985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35B8AC-2BBC-4991-805B-9408198A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F206D2-E270-4C2F-9E93-C6D4F7F9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69EC93-53CD-43F7-B8AD-FAA91260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2F3580-8125-42CF-849B-78F69DCF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79C817-7236-4DDF-BDD1-237D1DE0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601D0E-664F-4B27-8ACF-D47C2646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6E338B-A824-4885-9BE0-6B8ED356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D28B39-5721-4C43-AD1D-6B3E9E7E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E16D9C-FC2F-49A3-9072-CED83B4C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95830C-A413-4E80-9004-4EDFDEF7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7F6D-864D-4B68-8944-A6818B6C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6272D2-B5C9-405D-8F5C-9C496292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8774C3-A7F5-42A0-869B-9F946E3A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CD03E0-1FD2-4E25-A2FA-96CF13EB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E36342-0046-4D88-BF35-BC925D43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235CF9-E87F-4599-A15C-1A301216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3EBCA3-7DAF-4EAC-B6FF-C0A6058E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958567-4753-4A64-9C8E-0AE56674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EF937B-62BD-4BC2-BC0D-70A4334D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2828A4-C144-46F8-9889-927DDB86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9E4857-52FD-4AA7-BF08-9EDF8D74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FB995-AAB3-47C6-BC60-C278CE90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6F23C8-29AA-4471-8128-3E548F5E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606203-AC13-4E16-9E27-E37D54A6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05931F-4A02-4C30-B28D-7A4B2B60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E37B1A-0286-4A8D-BBB6-5C02CFE8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5F5909-AFAF-4E7B-A847-F27B1E53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39D9E6-CB88-4060-9EE9-62BA08DA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6D23B5-7632-45A6-8272-F59A29FE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5F59C5-0040-4ACF-B94A-9610265A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B8E9C9-13A6-4672-8D44-C9352145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0653E8-A158-4563-BCCD-F68F5BA7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7DB23-00BE-4B38-ACC0-A3BB1675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1B2D96-567C-4302-BED9-17764281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687935-BA2B-408A-AA44-D63A696F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11765A-E725-4D69-AEC8-47E7CE9C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016443-1938-40DA-9473-7A85C854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FEE7EC-8611-4FD2-9C90-6641679C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724F8C-731B-4D96-AF77-F10CDB65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27711A-1339-45B0-997B-22ED0331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4BAF77-202C-4BF2-A397-AE67837F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7416CC-62D1-46CC-BD17-2273614F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412758-9B05-4F19-B823-9EBDF832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4D53A-D424-474B-A324-769D41AB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D1AC55-57EF-4D78-BFB2-686E6852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C2BA32-BF6D-4DBB-8E53-179DDB1C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8E3426-8D00-4DBE-88F5-E3EAF97B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CB63F8-D270-4973-8E26-9FD757B9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7F6C74-9597-47B2-A4E1-92A7C2E0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62BA2F-7B80-4D2F-86EA-A5E7DD79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63B4DE-5773-4C63-89C6-4D6330F4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E6E5BF-A3E1-489D-B763-2934F448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0F4D5C-1869-4DDA-A35F-33D33B64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2628B9-DFE9-4A92-9C3C-9425A018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1AC-64A4-41AB-91D6-A5C7E19E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FF21-B7B1-4049-9582-7E667DA2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E36CF7-51CC-49E0-A1E1-CEA37B15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5D3381-32F7-4685-8C94-1AEB9C83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3EC917-EFF5-45A8-A0F1-2CC04966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BA3938-BA63-460E-A1B8-18E2F79A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DA0D50-06E9-4387-8379-2E731B75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FF1899-7DC7-4275-AD18-4EA1CC08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9C1210-D428-4809-8FB5-0CC868DA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6085B4-1C97-4EBC-8BA2-CFF89E2A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AE88E0-D894-4EA1-9FAD-031C07EC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735A4E-C4F8-42C0-A436-E3038256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05446-5E5F-44F1-A250-6C0D762C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743158-F892-4D68-9BE7-C458CC98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EDD9C14-8CAD-45FA-80D3-E55EFED8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4B35363-45FB-4CAE-B17C-E89FD18F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4FF6DE-A9A8-4DF8-8555-17CB070C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45E89B-97BE-4D9C-A93B-F6387896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528D64-0379-4899-BF89-D235F0DB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05B3DA-0195-4C3E-A5D9-01ACC839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D76335-00E2-4767-9549-FE6EB821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B4E366-66D7-4FDF-ABE9-C0B0B7C9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6F4AD5-A8AC-4273-95EA-0E7E7DB6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01F58-A1B4-4363-9314-C45A3E24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CD03FA-0FCE-41E1-B7E7-CA3F4BA1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47940D-8B6D-46B5-9BC0-9C5ABF28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17E6F7-FD8C-4A44-9D1C-0A46F08C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5B1AC7-D0A9-4FFF-8B2D-00A4F078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9C93BA-406D-4B35-9132-67EDA051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F7AEE9-81F1-4E70-8473-F219629C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4C07A2E-F8CB-4DA0-9879-55286021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53EA98-CF90-4C8F-ACB6-A0AAF457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CA73627-E5CB-49D6-AEFF-4F2FADBC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ADB8F5-3D62-49B3-93D6-0F2C21A6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39B27-A410-43B3-BB2A-8E88CF00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F596782-DD26-4E39-B409-158F9BD7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DA5EE0-B861-4011-A478-6EE5D21E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6DC5BD-78B2-43E0-B529-FB9B624B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D60623-B9A2-4E14-86EA-C9213AB8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7D6ACC-AA56-4C69-8DF1-FCDC946A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5969B77-E10F-4333-9ACC-2BE5330F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709CC6-C6EE-47A3-86F4-750AFD4F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9043F4-04B9-4848-809B-5E5F75F1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2193B49-CBAB-47B5-8690-2CA9C5E2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A2B12D-CDE7-47B5-8474-B725CA74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AA4A7-9D86-4C1C-A6FD-DE2CC630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237B9AD-6AC5-42A5-B0F0-60A9F5B9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116053F-D2F7-4B73-854E-F3E8FAEA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356A26-7D2B-4C1B-8F79-88F90A8F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2BFDFAA-B430-45E1-B3BD-F9A35A86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2D19D76-8FA3-40B5-BF0D-BDEF248B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8F1DD0-550B-4D63-93FA-21FAC7E2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F778142-270C-4847-9733-20F97A42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7E3EC6-F5A1-471C-842C-7E68908F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A4CC0A-3671-4439-8398-D2700D94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68509A1-57A7-45AB-AFE7-67154BB5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EDC84-A2B6-4AB5-8D34-B5C9D949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CF228F-9721-429E-9868-3E0F1164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DFDE271-D32D-43B6-B3D7-786198A0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9942473-CC3C-48ED-A6EC-70455FA0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DA6B618-D496-482C-9EAC-3C4645E2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F26676-BAB3-4BB1-B0DC-9252D34B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2A112E5-E4BD-4E43-BA0C-B7875E97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1EE1567-E04F-4901-BE2A-AE79B049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15104AA-58DA-4C6F-953A-EBE6C917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E90EF7-FB32-46E3-82CF-76F2B488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F7842ED-BEE6-474E-BE2A-2FC838C3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B1088-B88A-40D0-99DC-4101074A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A009A4-99ED-42B0-81D1-4B877DB5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F00E30-5B99-4220-B42C-BCED1C61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0DF3F5E-921E-4D92-BF3E-AE9E37D8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4AACFE7-F73E-4865-B81C-8CA5C5E0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85EF698-D751-4CDA-8A4F-64250886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5E01E9-B0A8-4DED-AB5C-315078BF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4928E06-E9CF-45D6-A687-53834E5B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349277D-67B2-403E-92EC-B5EA4971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99EB85D-623A-4975-B792-548A2048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E46B7FB-3F4B-41E7-B230-EA71972A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A5ABC-9897-45F1-8287-354DE2E6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1400E74-8200-4963-8C08-159A7066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CCBD807-206A-4A08-8D94-C3E7233D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08EBBE7-F9B6-4ADA-A8DE-7699B93B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01F7D2-C471-47A7-B152-C7C645C3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876822-1233-4FD4-8417-429B4B46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413E1D5-3936-4CB1-A7C0-2A648155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ACD985E-775C-42B7-8013-3CB9DE2F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A0711B-1501-4D2B-9A4B-1F14C582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67ADD8B-909C-4E71-98D6-7C26D43B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E4058FE-0069-4DB6-AC3B-1C36ABFA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4ACF9-B024-461F-AFFC-CA298A24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D03F93-B99F-43F3-966E-7DA9E34A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4690BFB-73DD-497D-9D27-2E1B700E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70A06A4-C840-413C-B851-91736FBE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4A585CE-94AF-45DF-9910-E51169D1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CA0BFB-98EC-4309-8372-8FC57D95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74A96AD-B445-40AC-BEB7-208069CA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13F471E-1B1D-4C5A-8612-951583B9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9A2960D-2526-4EE0-A8BA-E3EFC783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DB699D0-DC2B-48F6-8D9C-A96D0760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8F3A515-2879-4F77-AA83-2A3643CD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90F9D-A8D8-40C5-82B1-6159A154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E91089E-72ED-4C45-AE3C-F2FF4039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6D58A14-7CA0-4B6C-845C-F0E2770C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757F12A-F461-462B-B6F1-7B8A716A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55AA08E-D10C-4D41-B880-DC1DEDEB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0EF6A6E-7BD2-4758-A622-F65E3C8D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78DB7C5-A562-4010-A3EE-DB7FDF9C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CA9AEE-A807-44B5-A334-02CD5B79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F0A724D-4B4E-478F-87C7-A373ED0E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5765F4-EAEE-4E23-8D28-1FD6118B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2236631-F4B1-43FA-B529-C0547104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81B-7F19-482A-AA9F-4548F395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64D60-9F80-4850-9028-190AFBE1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5917475-7D46-475F-B5D6-99EA57AB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262237A-DD2F-490B-A258-DE2D61E6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02F42AC-C183-47C4-9771-12D892E5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422823C-DA80-4BE9-99F6-7E2E4064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424F7DA-4FDA-4909-9390-8E84564A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EC2392C-3A51-4202-BFC7-5A90C8AF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E281E3E-1602-4D4A-8874-0AACE0FA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9A43F0D-0CED-4B94-97D1-315D499C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260719C-A0E7-4F19-8D07-7E7EE04F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429839F-CE41-4E28-8CFC-81622BDF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1677D-3563-4405-8E7E-7DC3802D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4BAF2BB-8F4C-4A61-A741-B7DC396F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EA85243-A70B-4814-8502-4DAC6DC6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6720B73-8F00-4066-89C4-1BB877AD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DA58C86-D4C4-4ED6-BB1C-7A4E31F0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47B17FE-E928-4F44-A23C-DBCF0797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6AD70E4-26E8-40EC-B565-4D13CF4F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43C8112-A99D-4A9B-AF5F-218CF25B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1EC79D4-EF14-44FF-900A-43048962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FAD3E98-9FF2-4F71-8A6A-D165D02C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ACD58FE-59F1-4E02-ABC0-0E0929F1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4F334-EB6D-44BA-A8EB-F243A0BD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5947AE2-6F43-40B9-A54D-91DA76B0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DED09EE-4738-478D-8E8C-8BAA574A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21E434A-5E46-42C5-B9E7-7887D921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B5B794E-538B-43E3-B31E-7A98AFFC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CAF473F-A17D-4AB4-9565-237DE92C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8BED875-071F-4BA9-8CAA-D46DF7C5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8DC7CD7-ACE6-4C49-8292-CBF4FEDC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F973BAD-67FE-4E1B-912D-ABECA1B7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F0506CD-07BB-4831-B67E-B4056D14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D65A606-3205-4366-B75D-71EC41C9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63AF2-E454-477F-860A-A832BCEC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3879FA9-A83C-419F-A556-B0C38EC1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B1B7634-C814-4D28-B6BB-B5BBD5E9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378475F-41A1-4E0B-854C-960E3557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CB045BC-D6C5-4A86-830F-39357FBE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E8306C9-57C0-476E-83BD-91C48E14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0B5F196-CCB3-4F62-AF36-791E982B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C2F464E-09D7-43BA-A871-995F1948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FD99263-D893-438C-9FC0-2CC4FCD2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83DE29F-E1C0-4460-81FF-00BFABEF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A550AC5-D76B-47C3-B32D-29E05DF3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EC302-A913-4FAE-933C-9FF6CA08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2EF2974-39DA-49F8-8CBA-5EEC2A5F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772EA38-12CF-4B95-AA16-3CE96B07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1868413-40CF-4174-B325-70CF7001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23E5F85-B753-4850-8AEF-232F51E7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8FEB3A3-A093-4089-90F3-C70A8B8E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337754-8C02-43F7-BC2A-D3362739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D5CE949-8261-4E1D-A8F0-2F90CF11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3B89E5E-A086-421D-BECE-D4686CC7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02AE20C-CA40-4655-A0ED-AF2858F3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873D16-6A31-4D52-A81A-F99E5F79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59EFE-FAD9-4C17-88BF-2A13B8CD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07EEDA8-48C3-4CAA-A721-8BF73106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26FEF0A-15FA-46CE-A550-216799E5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CA1D33A-03C5-422A-A0FA-2680E166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C1CCE41-F5AC-4032-9B89-6ABFBA9D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8646773-D1D3-4C92-9278-6B0CE4BF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75B7200-1E0B-4D2E-9DAA-4AC33203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7A32DC7-4248-4E85-AB17-B9A29DDE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0AC8EEC-60F8-41AD-81EF-6E9FB93F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5694CD0-8722-4BCE-A7DD-8B7B9793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729C38D-6E1D-418A-BA61-4C13FBCE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5D691-4B0E-4181-B85D-69BBDAC1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D353BC2-8352-44E1-B12C-3ECB574A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BBDCD39-8022-4A3E-A4DF-E3B926AA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BE4F47E-055A-4356-B26B-97B0CCEB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63DA888-D2E2-4883-8152-FD64B186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2D47FBD-183E-4DA6-80C6-C266B526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40B56C3-D842-4CB8-90EB-BF2ED274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2CC90E-7D18-4931-BE66-3216891C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33072E8-C703-4A7D-BD61-2F4115DB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42801D3-1B8A-4B20-96C7-76369F25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01D53BF-7ED7-4CC7-A34C-DB1B09E7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C7134-D082-49A8-9B98-E22E95F1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F9FBE05-7B34-4EB4-844E-58F92CCE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249E798-ACE1-4289-B619-D33F34D6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3E3DC94-DEC5-430E-B3D0-29976CC0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0C5E879-F82E-4B52-BFEB-BA3EC9AD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D26E22E-42DF-4004-A60D-5E39FD72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B7DFB2D-E019-4C03-AE65-A481D7E9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19DCC71-6700-4F43-9459-5E9044C5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A249969-F5A7-46B6-91DC-05D0BDCB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D34398B-C257-4ABC-A875-B308C7B7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3E90D12-433B-4B6E-9BE3-4BF899BF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68285-ED24-4D7C-A29B-A161CC00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1DA00CB-0295-4169-AC1D-F5DA688F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F5F4665-D331-4DD4-BC0E-9400D67D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8DE84F2-8BC3-40D2-AFA5-44C8B331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76782DA-AD9B-4750-8343-278C0BB5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9DC435B-F53B-4241-A35D-9D52D82C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6E8C70D-0207-4F65-BB06-0FDE1B7F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E7FC6C1-067F-4C4B-A4EB-8A61AD05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D767158-9B9C-4BA4-8D58-7A446187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9E85772-381E-4144-8A09-B4CDB7F1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4591284-E401-497B-A988-72B12C33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1E7C1-9BD8-4378-8EE2-924D8348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FCFFFFD-54E1-4526-AC93-43C0EC9F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03B1E5D-E5A8-4432-9BA4-09F292A5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865C325-E3E1-4104-83C1-9E6220F2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EB77DB9-4976-47AB-B5FF-7053F148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9B66DDC-CE47-43C0-BC07-4A990A7E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F2666AC-B42D-48E8-A8B6-D42D3519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CEB2450-A092-4189-B2D6-F0DF6BD6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4E62219-4988-4B63-98A4-798A37BB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D56561B-789E-4987-9410-5BC938E3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18D4411-9801-4E15-A5C3-C9D78475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357-A62F-4275-8BCD-9CE0398C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8AED3-E058-45D4-BE9C-7FC975CB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FAC4AFB-311F-4764-A4C5-56C87693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DF952C7-714A-472D-B531-B7188BA3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FB7E870-0B0B-4D62-853A-5F062BDB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2B7ACCB-EE37-4B98-A95B-350AE293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AAF012E-5EC9-4F66-8B73-6FFDE4CF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4A1055D-ACB8-421B-86E4-398FC828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F1F445D-CC42-491A-8F02-489E4F4B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2EEFDB1-3AA3-41A3-B407-D1117427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75FB5C7-F3FA-468A-BAC8-D180184E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3D0F0D6-87AA-48B4-BE7B-47EC0DC6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DB2C4-1EBC-42EB-ADD1-68944E38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5260917-33C0-4531-ABC2-3167D77E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80C2AC4-987F-49E3-BC2F-7C85682A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FCE5375-E50C-4B2E-B3FF-B6F315F9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04AC567-BF20-4D5D-94A5-541B8885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C3A83EC-368C-4BF5-81EB-E202AD15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75109DF-79BB-49A9-AA6A-191DE362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BC9AD60-08D7-42E1-B0CC-4480A96F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89516B7-CF6F-4CE4-831C-A40F322E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93A2F84-07B8-433D-BCC6-10CDDBD0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A1A1B59-D1AF-4FC2-9CFA-63341CF9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A2E77-F610-4719-B5C4-737ED03B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347286B-77A1-4548-B0EA-8FF23B62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CCE64A8-7E15-435F-AF2F-92268174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9DC2806-5D04-4D62-892B-DF5C5C55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9C0E5C7-540A-42E0-9A20-86FC9E1A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580D1DD-4BCE-4010-94A0-59D9EA2E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AAF08E3-905E-41CB-8546-10C08E9A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4528BC3-A831-4502-AA2D-9C086F9F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05EB3E1-8FB4-4CDC-A292-0303E70A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88606FE-C351-40AA-9EB3-CA865918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D519544-A76B-424A-A013-5FFDDF1B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C389C-06A6-4515-876E-F5F3B035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0EC568E-ABA5-4CF5-BFA4-6B5BC90C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B935D32-6EED-4D78-BC0D-24AC90FF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9411DE9-5F99-4C09-9276-244CE748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F50BAB0-9893-4621-A565-FF9E0B54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184DA4B-D218-4C52-A7C0-F8EB4D47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C342B98-87A3-4462-BF3D-20075F94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5D5C9AC-B6D7-4DCE-B889-D2D8C62C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1A26098-CD85-4C90-8915-E4DBBB40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AC94C7D-B0D1-4793-99B8-CB20F2C1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186FFCD-2B32-47AD-A0B0-C8431BB8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5AD0B-2643-486B-9C3C-6D498735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92044EE-83A3-4DF6-8312-C1649D62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3A175CE-47D4-42E8-8364-37450EFA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4941105-E7FF-406B-A33D-1821CCE1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CC4257C-4C1E-4575-B042-F32CE2EF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5BB8DBE-CA4A-4EBD-87B2-86ACAC6C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1106C30-6BD4-4B7F-A495-94732BFF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1D1CEBA-43BE-409B-93A6-45B8B135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276D550-6B41-4F77-9D2B-ADA6E990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D4261C5-4596-47DB-8229-AF4C059F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9A336D7-D6AE-47D3-B377-5B6B84A9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2D6EA-B259-49A4-9FA2-52E7F4D6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F5B548D-269B-41BE-BBFE-B7FB4062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7D65028-40D4-4FA1-85E6-A5A38606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AFEDE5C-6A0E-44AA-BF39-3EB904D2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362504C-CF26-4FC2-8A93-8BE8E7FB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B249A97-88B0-486F-8FFE-8E70708A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64E6683-A42C-4AC1-A07C-81478A5E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147C667-9935-44A2-A953-11661A1A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85D56B0-EF1C-4492-8039-630E3A38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26A340D-A67D-4ED4-ABFD-EB50825F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99A42D3-65DF-4872-A9AF-8D6487A1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2F6D7-30F2-4101-863E-BC66AD26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1BCD7B8-B32E-45A3-AD3A-E8B99C94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17275DF-7F6C-472F-9EFC-F2507B49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99C67D7-0A61-4F29-A6B0-C4188609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6E0CD8B-364E-47D1-9A45-9F0AABC0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720660C-4204-49AA-B28B-062E2AC0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B38AAD6-5B62-4558-AB72-BCEFC658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5476488-2A8E-4C0A-9430-921A0FFA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191E3F7-6E63-49A3-9944-7244C34B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D7C7FC2-4612-4025-8FDF-4A8B7371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5CAA310-E471-4349-A5C9-115D5C15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728D3-84B4-45F7-B67E-006A2F4E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BEC576D-2287-4C80-9DA2-A0692166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E801BF6-1C5D-44A5-AEE8-1A7F8DBE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DF41DCB-0FEB-4527-A794-3DA2D08B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6A9A8FE-17FC-49C0-A969-CAC73653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489AA23-F9D9-42C5-890C-DEB5EA0A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A7E5DA4-652F-480F-915A-B53ECF8E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F897C3F-1610-4326-8B48-42B7B4BE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6D69C18-2BAD-41F6-B8C4-1DE81953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ECFE53A-2D01-47F1-B23F-FA615571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BF4934C-F786-4456-883E-F62FC14B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42CEC-47E2-4BFA-A9D5-D4DE3B67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E2D2BCE-5A94-4CF3-A732-75EC5C2F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B03ED5B-7323-4DD9-8A87-F5C993AF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994840B-114A-4B9F-9523-3A1A950F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81D4466-211E-4C44-A460-1A616A6B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57FA427-338E-4531-8649-1370180D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EF8B075-406C-4A5D-8E84-20FA200C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5FA4A2C-B81E-4477-B5EF-5A32734E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03D3B48-5406-4C51-BEBE-82BC6504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C7EB2FB-EF6F-4C35-958B-ABC88DDA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976037B-6919-4B21-B837-68917F27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45E8D-73D9-456E-AB0C-613B4BB8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2EF5069-8C37-49D7-8799-CB854727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979D835-473D-44DD-95A3-957E2A38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52A21B3-9F7D-4557-AEE9-319902EF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29536A2-A6E8-4537-8F1B-5130B7C7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6BFA859-7BE0-4ABA-84D7-A1595DA8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D58F50F-91C3-4EFA-BF05-BF6B2958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B8C8EA2-B7D5-4E5E-BD5C-050FC79B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F5FEA77-839A-4D07-BB57-3A86F175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E4230BA-4F73-422C-871A-C06F0B90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2594961-1973-4407-B1BE-70C5761F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9C4-372E-4731-9D47-14923937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29017-D8C9-4A1E-88F7-95B860F0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A46252C-A5D3-4C98-9A66-07DD4739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8F10721-C4CF-4512-BEAA-AFEC68E8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8E544EB-5E82-4E97-A889-07DAB9DE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4E0CF03-5BE9-497A-A635-ACF9CCCB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B395738-7352-49D1-A08B-F5B5F7B9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EFC14CB-AED6-4D71-94F9-CB94AE88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DD41D56-13AB-45F0-9F12-C7B6277C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770A9A1-C39E-485B-8C5B-CC7B03BF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9F76B35-0531-40C7-B33C-92D480A9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A8474BC-9AFA-47F5-AFA4-8726F4E3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06906-58FF-4355-A68F-F773EFBF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B53DF7C-4778-491E-82E7-59545B54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CDA6A30-6507-430B-AA32-B79E1504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37B4E59-6553-428B-90FF-91AB837B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0C1BEBF-DD18-4E7A-91DE-73067735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0159934-D428-41D3-8B7D-B682DB07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1ABC677-22C4-4462-A573-5CC68FDB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A7CF260-9667-46D1-993B-D8A80159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BF56439-2FBC-44CE-A9F6-097412C9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05B3028-DFAA-49DF-8A5D-F8AE94F7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D142317-E12D-486A-BB6D-7AD63030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B032E-EC2A-485E-A382-02DA73B7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7E37099-9BE6-48FF-ABB7-01EBEA18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8D141-C0FA-40C3-86C3-84D42FC4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1F781-299E-4704-B918-F5CDED55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BCC8C-D98B-421D-B3B5-1FDB8D90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D6B2C-D0FD-4A45-B6B2-695C4513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96BC2-8540-4359-A81B-0A19BAA2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445AC-6E33-4C40-931F-6B300081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069EA-50A9-43F3-9B25-66FF3FB8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43C-5B8B-4336-AD55-F13D816F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416EC-6186-4E88-BD6A-3637FB85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90675-4F94-4650-A11A-E414FA29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0C120-0C3E-4EB2-9694-B3F1AB9A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24F3D-CBD2-4330-922C-6B929B4C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45DBB-823E-48FB-AA47-59F43193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B90C2-67AD-4DA2-8053-CD193DA6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949B3-04E4-4634-A046-2D029F91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3C54D-7D6E-49BB-A1FA-572F6FD3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7125F-4F2B-4908-BA92-A71FD547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80F1D-BFCF-4FEA-ABAF-17052175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F0D-8F87-427C-A80B-8EA9A5D9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604DE-7D9C-4DAD-8BEA-0A5911D0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1006D-3115-4D43-979A-172B9308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A0D7E-6CDB-40DF-96C6-DA092D97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15FCF-E783-4AEA-AFF6-B99464F3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8D825-E725-4EBE-91C1-C0E5897C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597A6-1ABE-484D-BF74-844FEAE7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0C134-F334-4BD3-A6CA-F03E3620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B965A-5A91-4226-9889-61B09402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760A9-185C-4D01-B7FE-209316D6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44BF0-F638-4A14-A082-F756EF89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D62B-C81C-48E7-9970-7E09A9D44E32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A835-FD64-4EEA-A106-20E96CC7A6E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533E-FD84-4AB1-9ACF-19A3AC69CA7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A412-0209-40E8-B06B-32DFC395D87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69E5-4915-40D0-9072-65E94266690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9B09-6292-49C2-9344-20A9E9E0785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80D6-FA97-4A40-86F6-27D27443EF8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91D1-EF2A-4687-96C6-887780EF1C02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E703-1719-4452-B389-7FEDCF050802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2819-E2ED-4064-96FE-18E0B662EF24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6921-D163-47BB-838D-AFCD0331AE4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E556-AAB2-43D4-8DC6-B791B6728A1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5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6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5613-2EB9-4BBC-9B74-8F3BC59A7E2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4008-2887-42D4-9B8A-C56CC9A7256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6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6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0962-5A4C-4FC3-BCA1-75D6D4F85A1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1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1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72CE-3AA5-418B-ABC3-DDDB451A7AB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6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6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6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19A3-E7EB-4DCE-96EC-E328D2AEE0E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1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1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1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sldNum" idx="7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F034-9B46-4232-8DCE-87856102BB3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6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6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6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7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2E4C-EA82-4DAC-8768-D766E081913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1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1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1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8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8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1A46-CB1E-4C63-BD90-7A7DBC95B8E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6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7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7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8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8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2A8F-8AD7-4775-B1D4-ACFEC1A86BB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1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2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2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8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8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234A-23F5-40B5-A50C-7B64461BC2A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BA7D-2BF1-4719-B826-E36B1CFE3D3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6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7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7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8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9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C918-D3C6-4BF0-B0E6-91925E03398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2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2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9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9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5A89-1D27-479A-9BA4-FA08D31B5CA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7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7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 type="ftr" idx="9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 type="sldNum" idx="9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069C-9BE7-4EB7-8459-64383654CE8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62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2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 type="ftr" idx="9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 type="sldNum" idx="9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1BDC-1E95-4B69-B0B1-1E8407ACC24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67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7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8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 type="ftr" idx="10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 type="sldNum" idx="10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A27B-A727-4613-B361-ACE8F1C0410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2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2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3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 type="ftr" idx="10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 type="sldNum" idx="10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D9BA-E2A4-4E90-B562-5D4A79D1B66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7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8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 type="ftr" idx="10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 type="sldNum" idx="10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CF2F-8549-44E1-AAE5-E39B30B3B70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3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3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3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 type="ftr" idx="11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 type="sldNum" idx="11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3F6C-2CA9-4B7A-9C4C-064D5759684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8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8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8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ftr" idx="11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 type="sldNum" idx="1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C81B-A0EE-4D05-9705-64C95F2A6AA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3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3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 type="ftr" idx="11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 type="sldNum" idx="11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D4FB-6F69-4F0F-A64D-23233CDB433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AD59-D338-456B-B236-EA24C44AD22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 type="ftr" idx="11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 type="sldNum" idx="12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C9A2-6FF4-4303-B8BE-20D276BE31D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3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3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 type="ftr" idx="12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 type="sldNum" idx="12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7525-332C-458F-A6BA-42A682E2A8B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12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12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9573-5709-4C49-A886-DF6D9BC1743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1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 type="ftr" idx="12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5"/>
          <p:cNvSpPr>
            <a:spLocks noGrp="1"/>
          </p:cNvSpPr>
          <p:nvPr>
            <p:ph type="sldNum" idx="12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CCA7-8771-4770-87BB-C6F91E1EFBA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1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 type="ftr" idx="13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 type="sldNum" idx="13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AC28-C9A8-4FF8-B709-3C8841B3609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2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 type="ftr" idx="13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5"/>
          <p:cNvSpPr>
            <a:spLocks noGrp="1"/>
          </p:cNvSpPr>
          <p:nvPr>
            <p:ph type="sldNum" idx="13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C366-6F2D-4A29-A89B-DD0B7DE26E1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2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3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3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FE94-048C-47E4-8FDC-13EFD9381EC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 type="ftr" idx="14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 type="sldNum" idx="14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F211-8302-4E0A-9130-AB5FFD4E1F2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 type="ftr" idx="14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5"/>
          <p:cNvSpPr>
            <a:spLocks noGrp="1"/>
          </p:cNvSpPr>
          <p:nvPr>
            <p:ph type="sldNum" idx="14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7D31-C602-427A-B58E-C981D4CA08A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4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5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 type="ftr" idx="14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 type="sldNum" idx="14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D913-C4E4-4CC2-8A7D-4871BDA5947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FFBC-95BB-4CE2-9E1E-8DB564F9076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9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0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 type="ftr" idx="14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5"/>
          <p:cNvSpPr>
            <a:spLocks noGrp="1"/>
          </p:cNvSpPr>
          <p:nvPr>
            <p:ph type="sldNum" idx="15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DD97-DE36-41D4-8108-4AF97071D3C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4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5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 type="ftr" idx="15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5"/>
          <p:cNvSpPr>
            <a:spLocks noGrp="1"/>
          </p:cNvSpPr>
          <p:nvPr>
            <p:ph type="sldNum" idx="15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5AF6-8C90-467E-9C67-B958C84D390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0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0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 type="ftr" idx="15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 type="sldNum" idx="15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9D71-A37D-4C2B-8403-43AE1741D6D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5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5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5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 type="ftr" idx="15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 type="sldNum" idx="15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1BB9-7883-41E9-AF28-0E9747F166A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70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70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70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 type="ftr" idx="16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 type="sldNum" idx="16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8097-40F2-4BE2-AB98-7FE601121D9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75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75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75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 type="ftr" idx="16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5"/>
          <p:cNvSpPr>
            <a:spLocks noGrp="1"/>
          </p:cNvSpPr>
          <p:nvPr>
            <p:ph type="sldNum" idx="16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83DD-93CD-4E11-BAD7-738D7558822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0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0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0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 type="ftr" idx="16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5"/>
          <p:cNvSpPr>
            <a:spLocks noGrp="1"/>
          </p:cNvSpPr>
          <p:nvPr>
            <p:ph type="sldNum" idx="16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19BA-BF5A-42E1-B987-59A9CAD1358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5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5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 type="ftr" idx="17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 type="sldNum" idx="17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75D2-B5E2-41E9-8A36-35CCC1C3DFA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0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1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1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17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17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396D-2BC5-4723-BE27-80889B3EA1B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5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6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6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 type="ftr" idx="17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5"/>
          <p:cNvSpPr>
            <a:spLocks noGrp="1"/>
          </p:cNvSpPr>
          <p:nvPr>
            <p:ph type="sldNum" idx="17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2A9D-BC80-4AE4-A79A-B08F6262E72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D293-8CD0-451B-AE6C-99D6A76566B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0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1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1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 type="ftr" idx="17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5"/>
          <p:cNvSpPr>
            <a:spLocks noGrp="1"/>
          </p:cNvSpPr>
          <p:nvPr>
            <p:ph type="sldNum" idx="18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E874-BAD3-46A8-8CC8-E1740C83522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1F7F-BC78-4B46-915D-35116EDFAB6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9A1E-B888-4718-AD85-4E30BDC6934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15D5-BB5C-4A13-BC53-2B09B9D8BA8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file:///&#1055;&#1044;&#1044;2.ppt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#Slide 10" TargetMode="External"/><Relationship Id="rId2" Type="http://schemas.openxmlformats.org/officeDocument/2006/relationships/hyperlink" Target="file:///&#1055;&#1044;&#1044;2.ppt#Slide 11" TargetMode="External"/><Relationship Id="rId3" Type="http://schemas.openxmlformats.org/officeDocument/2006/relationships/hyperlink" Target="file:///&#1055;&#1044;&#1044;2.ppt#Slide 12" TargetMode="External"/><Relationship Id="rId4" Type="http://schemas.openxmlformats.org/officeDocument/2006/relationships/hyperlink" Target="file:///&#1055;&#1044;&#1044;2.ppt#Slide 13" TargetMode="External"/><Relationship Id="rId5" Type="http://schemas.openxmlformats.org/officeDocument/2006/relationships/hyperlink" Target="file:///&#1055;&#1044;&#1044;2.ppt#Slide 14" TargetMode="External"/><Relationship Id="rId6" Type="http://schemas.openxmlformats.org/officeDocument/2006/relationships/hyperlink" Target="file:///&#1055;&#1044;&#1044;2.ppt#Slide 15" TargetMode="External"/><Relationship Id="rId7" Type="http://schemas.openxmlformats.org/officeDocument/2006/relationships/hyperlink" Target="file:///&#1055;&#1044;&#1044;2.ppt#Slide 16" TargetMode="External"/><Relationship Id="rId8" Type="http://schemas.openxmlformats.org/officeDocument/2006/relationships/hyperlink" Target="file:///&#1055;&#1044;&#1044;2.ppt#Slide 17" TargetMode="External"/><Relationship Id="rId9" Type="http://schemas.openxmlformats.org/officeDocument/2006/relationships/hyperlink" Target="file:///&#1055;&#1044;&#1044;2.ppt#Slide 18" TargetMode="External"/><Relationship Id="rId10" Type="http://schemas.openxmlformats.org/officeDocument/2006/relationships/hyperlink" Target="file:///&#1055;&#1044;&#1044;2.ppt#Slide 19" TargetMode="External"/><Relationship Id="rId11" Type="http://schemas.openxmlformats.org/officeDocument/2006/relationships/hyperlink" Target="file:///&#1055;&#1044;&#1044;2.ppt#Slide 20" TargetMode="External"/><Relationship Id="rId12" Type="http://schemas.openxmlformats.org/officeDocument/2006/relationships/hyperlink" Target="file:///&#1055;&#1044;&#1044;2.ppt#Slide 21" TargetMode="External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jpeg"/><Relationship Id="rId3" Type="http://schemas.openxmlformats.org/officeDocument/2006/relationships/image" Target="../media/image7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8.xml"/><Relationship Id="rId8" Type="http://schemas.openxmlformats.org/officeDocument/2006/relationships/slide" Target="slide29.xml"/><Relationship Id="rId9" Type="http://schemas.openxmlformats.org/officeDocument/2006/relationships/slide" Target="slide30.xml"/><Relationship Id="rId10" Type="http://schemas.openxmlformats.org/officeDocument/2006/relationships/slide" Target="slide31.xml"/><Relationship Id="rId11" Type="http://schemas.openxmlformats.org/officeDocument/2006/relationships/slide" Target="slide32.xml"/><Relationship Id="rId12" Type="http://schemas.openxmlformats.org/officeDocument/2006/relationships/slide" Target="slide33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13.png"/><Relationship Id="rId3" Type="http://schemas.openxmlformats.org/officeDocument/2006/relationships/hyperlink" Target="file:///&#1055;&#1044;&#1044;2.ppt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&#1055;&#1044;&#1044;2.ppt" TargetMode="External"/><Relationship Id="rId6" Type="http://schemas.openxmlformats.org/officeDocument/2006/relationships/image" Target="../media/image13.png"/><Relationship Id="rId7" Type="http://schemas.openxmlformats.org/officeDocument/2006/relationships/hyperlink" Target="file:///&#1055;&#1044;&#1044;2.ppt" TargetMode="External"/><Relationship Id="rId8" Type="http://schemas.openxmlformats.org/officeDocument/2006/relationships/image" Target="../media/image13.png"/><Relationship Id="rId9" Type="http://schemas.openxmlformats.org/officeDocument/2006/relationships/hyperlink" Target="file:///&#1055;&#1044;&#1044;2.ppt" TargetMode="External"/><Relationship Id="rId10" Type="http://schemas.openxmlformats.org/officeDocument/2006/relationships/image" Target="../media/image13.png"/><Relationship Id="rId11" Type="http://schemas.openxmlformats.org/officeDocument/2006/relationships/hyperlink" Target="file:///&#1055;&#1044;&#1044;2.ppt" TargetMode="Externa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TextBox 7"/>
          <p:cNvSpPr/>
          <p:nvPr/>
        </p:nvSpPr>
        <p:spPr>
          <a:xfrm>
            <a:off x="324000" y="85716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Правила дорожного движ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2" name="Группа 10"/>
          <p:cNvGrpSpPr/>
          <p:nvPr/>
        </p:nvGrpSpPr>
        <p:grpSpPr>
          <a:xfrm>
            <a:off x="214200" y="2500200"/>
            <a:ext cx="2714760" cy="4140360"/>
            <a:chOff x="214200" y="2500200"/>
            <a:chExt cx="2714760" cy="4140360"/>
          </a:xfrm>
        </p:grpSpPr>
        <p:pic>
          <p:nvPicPr>
            <p:cNvPr id="3063" name="Рисунок 4" descr="1730.gif"/>
            <p:cNvPicPr/>
            <p:nvPr/>
          </p:nvPicPr>
          <p:blipFill>
            <a:blip r:embed="rId1"/>
            <a:stretch/>
          </p:blipFill>
          <p:spPr>
            <a:xfrm>
              <a:off x="214200" y="5215320"/>
              <a:ext cx="928800" cy="13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4" name="Рисунок 5" descr="post-26681-0-37452900-1369904148.jpg"/>
            <p:cNvPicPr/>
            <p:nvPr/>
          </p:nvPicPr>
          <p:blipFill>
            <a:blip r:embed="rId2"/>
            <a:stretch/>
          </p:blipFill>
          <p:spPr>
            <a:xfrm>
              <a:off x="214200" y="3929040"/>
              <a:ext cx="965880" cy="14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5" name="Рисунок 6" descr="hotel.jpg"/>
            <p:cNvPicPr/>
            <p:nvPr/>
          </p:nvPicPr>
          <p:blipFill>
            <a:blip r:embed="rId3"/>
            <a:srcRect l="16251" t="0" r="16251" b="0"/>
            <a:stretch/>
          </p:blipFill>
          <p:spPr>
            <a:xfrm>
              <a:off x="214200" y="2500200"/>
              <a:ext cx="9644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6" name="Рисунок 7" descr="54179480-fuyuitcu1fygcggb.gif"/>
            <p:cNvPicPr/>
            <p:nvPr/>
          </p:nvPicPr>
          <p:blipFill>
            <a:blip r:embed="rId4"/>
            <a:stretch/>
          </p:blipFill>
          <p:spPr>
            <a:xfrm>
              <a:off x="1143000" y="5331240"/>
              <a:ext cx="85716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7" name="Рисунок 8" descr="post-26681-0-37452900-1369904148.jpg"/>
            <p:cNvPicPr/>
            <p:nvPr/>
          </p:nvPicPr>
          <p:blipFill>
            <a:blip r:embed="rId5"/>
            <a:stretch/>
          </p:blipFill>
          <p:spPr>
            <a:xfrm>
              <a:off x="2000160" y="5286600"/>
              <a:ext cx="928800" cy="135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8" name="Рисунок 9" descr="16a.jpg"/>
          <p:cNvPicPr/>
          <p:nvPr/>
        </p:nvPicPr>
        <p:blipFill>
          <a:blip r:embed="rId6"/>
          <a:stretch/>
        </p:blipFill>
        <p:spPr>
          <a:xfrm>
            <a:off x="6931080" y="2498760"/>
            <a:ext cx="1622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Прямоугольник 2"/>
          <p:cNvSpPr/>
          <p:nvPr/>
        </p:nvSpPr>
        <p:spPr>
          <a:xfrm>
            <a:off x="1285920" y="642960"/>
            <a:ext cx="738828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транспортные средства по Правилам относятся к маршрутным транспортным средства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5" name="Рисунок 3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Прямоугольник 2"/>
          <p:cNvSpPr/>
          <p:nvPr/>
        </p:nvSpPr>
        <p:spPr>
          <a:xfrm>
            <a:off x="714240" y="117360"/>
            <a:ext cx="7632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Сколько перекрестков изображено на рисунк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7" name="Рисунок 4" descr="22-1.jpg"/>
          <p:cNvPicPr/>
          <p:nvPr/>
        </p:nvPicPr>
        <p:blipFill>
          <a:blip r:embed="rId1"/>
          <a:stretch/>
        </p:blipFill>
        <p:spPr>
          <a:xfrm>
            <a:off x="928800" y="1000080"/>
            <a:ext cx="7619760" cy="2857680"/>
          </a:xfrm>
          <a:prstGeom prst="rect">
            <a:avLst/>
          </a:prstGeom>
          <a:ln w="0">
            <a:noFill/>
          </a:ln>
        </p:spPr>
      </p:pic>
      <p:pic>
        <p:nvPicPr>
          <p:cNvPr id="3098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228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Прямоугольник 2"/>
          <p:cNvSpPr/>
          <p:nvPr/>
        </p:nvSpPr>
        <p:spPr>
          <a:xfrm>
            <a:off x="785880" y="500040"/>
            <a:ext cx="7745400" cy="12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На каком рисунке изображена дорога с разделительной полос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0" name="Рисунок 3" descr="25-1.jpg"/>
          <p:cNvPicPr/>
          <p:nvPr/>
        </p:nvPicPr>
        <p:blipFill>
          <a:blip r:embed="rId1"/>
          <a:stretch/>
        </p:blipFill>
        <p:spPr>
          <a:xfrm>
            <a:off x="928800" y="1357200"/>
            <a:ext cx="7619760" cy="2857680"/>
          </a:xfrm>
          <a:prstGeom prst="rect">
            <a:avLst/>
          </a:prstGeom>
          <a:ln w="0">
            <a:noFill/>
          </a:ln>
        </p:spPr>
      </p:pic>
      <p:pic>
        <p:nvPicPr>
          <p:cNvPr id="3101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1520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Прямоугольник 2"/>
          <p:cNvSpPr/>
          <p:nvPr/>
        </p:nvSpPr>
        <p:spPr>
          <a:xfrm>
            <a:off x="611280" y="692280"/>
            <a:ext cx="8281800" cy="71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Какой маневр совершает легковой автомобил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3" name="Рисунок 3" descr="33-1.jpg"/>
          <p:cNvPicPr/>
          <p:nvPr/>
        </p:nvPicPr>
        <p:blipFill>
          <a:blip r:embed="rId1"/>
          <a:stretch/>
        </p:blipFill>
        <p:spPr>
          <a:xfrm>
            <a:off x="714240" y="1857240"/>
            <a:ext cx="7620120" cy="2857680"/>
          </a:xfrm>
          <a:prstGeom prst="rect">
            <a:avLst/>
          </a:prstGeom>
          <a:ln w="0">
            <a:noFill/>
          </a:ln>
        </p:spPr>
      </p:pic>
      <p:pic>
        <p:nvPicPr>
          <p:cNvPr id="3104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43920" y="57150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Прямоугольник 2"/>
          <p:cNvSpPr/>
          <p:nvPr/>
        </p:nvSpPr>
        <p:spPr>
          <a:xfrm>
            <a:off x="826920" y="692280"/>
            <a:ext cx="803124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1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По каким частям дороги должны перемещаться пешеход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6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Прямоугольник 2"/>
          <p:cNvSpPr/>
          <p:nvPr/>
        </p:nvSpPr>
        <p:spPr>
          <a:xfrm>
            <a:off x="357120" y="692280"/>
            <a:ext cx="87868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2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Как следует поступить если пешеход не  успел закончить переход дорог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8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Прямоугольник 2"/>
          <p:cNvSpPr/>
          <p:nvPr/>
        </p:nvSpPr>
        <p:spPr>
          <a:xfrm>
            <a:off x="826920" y="692280"/>
            <a:ext cx="8031240" cy="87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Как необходимо двигаться пешеходу при движении по краю проезжей част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0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Прямоугольник 2"/>
          <p:cNvSpPr/>
          <p:nvPr/>
        </p:nvSpPr>
        <p:spPr>
          <a:xfrm>
            <a:off x="714240" y="214200"/>
            <a:ext cx="817272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Как нужно переходить дорогу если в зоне видимости нет пешеходного переход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2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Прямоугольник 2"/>
          <p:cNvSpPr/>
          <p:nvPr/>
        </p:nvSpPr>
        <p:spPr>
          <a:xfrm>
            <a:off x="826920" y="692280"/>
            <a:ext cx="7632720" cy="87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Кто должен быть пристегнут ремнями безопасности  при поездк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4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Прямоугольник 2"/>
          <p:cNvSpPr/>
          <p:nvPr/>
        </p:nvSpPr>
        <p:spPr>
          <a:xfrm>
            <a:off x="324000" y="692280"/>
            <a:ext cx="856908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детям до 12-ти лет ездить на переднем сиденье автомобиля рядом с водителе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6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ПЕРВЫЙ</a:t>
            </a:r>
            <a:r>
              <a:rPr b="1" lang="en-US" sz="80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Прямоугольник 2"/>
          <p:cNvSpPr/>
          <p:nvPr/>
        </p:nvSpPr>
        <p:spPr>
          <a:xfrm>
            <a:off x="468360" y="692280"/>
            <a:ext cx="8675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перевозить детей в возрасте до 12 лет на заднем сиденье мотоцикла если на них есть мотошл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8" name="Рисунок 3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Прямоугольник 2"/>
          <p:cNvSpPr/>
          <p:nvPr/>
        </p:nvSpPr>
        <p:spPr>
          <a:xfrm>
            <a:off x="826920" y="692280"/>
            <a:ext cx="7632720" cy="87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-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Когда можно производить посадку и высадку в/из транспортного средст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0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Прямоугольник 2"/>
          <p:cNvSpPr/>
          <p:nvPr/>
        </p:nvSpPr>
        <p:spPr>
          <a:xfrm>
            <a:off x="826920" y="692280"/>
            <a:ext cx="79599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ДВИЖЕНИЕ ВЕЛОСИПЕДО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ПОВОЗОК, МОПЕДОВ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Прямоугольник 3"/>
          <p:cNvSpPr/>
          <p:nvPr/>
        </p:nvSpPr>
        <p:spPr>
          <a:xfrm>
            <a:off x="358920" y="3071880"/>
            <a:ext cx="87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С какого возраста можно управлять велосипед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3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00960" y="4857840"/>
            <a:ext cx="98100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Прямоугольник 2"/>
          <p:cNvSpPr/>
          <p:nvPr/>
        </p:nvSpPr>
        <p:spPr>
          <a:xfrm>
            <a:off x="826920" y="692280"/>
            <a:ext cx="7632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ДВИЖЕНИЕ ВЕЛОСИПЕДО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ВОЗОК, МОПЕДОВ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</a:rPr>
              <a:t>-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Прямоугольник 3"/>
          <p:cNvSpPr/>
          <p:nvPr/>
        </p:nvSpPr>
        <p:spPr>
          <a:xfrm>
            <a:off x="358920" y="2643120"/>
            <a:ext cx="87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управлять велосипедом или мопедом одной руко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6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Прямоугольник 2"/>
          <p:cNvSpPr/>
          <p:nvPr/>
        </p:nvSpPr>
        <p:spPr>
          <a:xfrm>
            <a:off x="857160" y="301680"/>
            <a:ext cx="76327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ДВИЖЕНИЕ ВЕЛОСИПЕДОВ, ПОВОЗОК, МОПЕДОВ-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Обязан ли водитель автомобиля уступить дорогу велосипедисту, который движется по велосипедной дорожке, пересекающей проезжую ча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8" name="Рисунок 5" descr="velodoroga.jpg"/>
          <p:cNvPicPr/>
          <p:nvPr/>
        </p:nvPicPr>
        <p:blipFill>
          <a:blip r:embed="rId1"/>
          <a:stretch/>
        </p:blipFill>
        <p:spPr>
          <a:xfrm>
            <a:off x="2286000" y="1714680"/>
            <a:ext cx="4768920" cy="1785600"/>
          </a:xfrm>
          <a:prstGeom prst="rect">
            <a:avLst/>
          </a:prstGeom>
          <a:ln w="0">
            <a:noFill/>
          </a:ln>
        </p:spPr>
      </p:pic>
      <p:pic>
        <p:nvPicPr>
          <p:cNvPr id="3129" name="Рисунок 6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8684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Прямоугольник 2"/>
          <p:cNvSpPr/>
          <p:nvPr/>
        </p:nvSpPr>
        <p:spPr>
          <a:xfrm>
            <a:off x="1116000" y="69228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ДВИЖЕНИЕ ВЕЛОСИПЕДОВ, ПОВОЗОК, МОПЕДОВ-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Прямоугольник 3"/>
          <p:cNvSpPr/>
          <p:nvPr/>
        </p:nvSpPr>
        <p:spPr>
          <a:xfrm>
            <a:off x="214200" y="2071800"/>
            <a:ext cx="875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велосипедисту поворачивать налево или разворачиваться на дорогах с трамвайными путя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2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Прямоугольник 2"/>
          <p:cNvSpPr/>
          <p:nvPr/>
        </p:nvSpPr>
        <p:spPr>
          <a:xfrm>
            <a:off x="826920" y="692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2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обозначает этот 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4" name="Рисунок 6" descr="i.jpg"/>
          <p:cNvPicPr/>
          <p:nvPr/>
        </p:nvPicPr>
        <p:blipFill>
          <a:blip r:embed="rId1"/>
          <a:stretch/>
        </p:blipFill>
        <p:spPr>
          <a:xfrm>
            <a:off x="1071720" y="135720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3135" name="Рисунок 7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Прямоугольник 2"/>
          <p:cNvSpPr/>
          <p:nvPr/>
        </p:nvSpPr>
        <p:spPr>
          <a:xfrm>
            <a:off x="785880" y="214200"/>
            <a:ext cx="8358120" cy="71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</a:rPr>
              <a:t>Знаки-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Какой из знаков распространяет свое действие только на ту полосу, над которой он установле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7" name="Рисунок 4" descr="pdd_04_03.jpg"/>
          <p:cNvPicPr/>
          <p:nvPr/>
        </p:nvPicPr>
        <p:blipFill>
          <a:blip r:embed="rId1"/>
          <a:stretch/>
        </p:blipFill>
        <p:spPr>
          <a:xfrm>
            <a:off x="1428840" y="1357200"/>
            <a:ext cx="6545160" cy="2500560"/>
          </a:xfrm>
          <a:prstGeom prst="rect">
            <a:avLst/>
          </a:prstGeom>
          <a:ln w="0">
            <a:noFill/>
          </a:ln>
        </p:spPr>
      </p:pic>
      <p:pic>
        <p:nvPicPr>
          <p:cNvPr id="3138" name="Рисунок 6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86840" y="42148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Прямоугольник 2"/>
          <p:cNvSpPr/>
          <p:nvPr/>
        </p:nvSpPr>
        <p:spPr>
          <a:xfrm>
            <a:off x="324000" y="692280"/>
            <a:ext cx="8640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6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запрещено в зоне действия этого знак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0" name="Рисунок 3" descr="pdd_02_04.jpg"/>
          <p:cNvPicPr/>
          <p:nvPr/>
        </p:nvPicPr>
        <p:blipFill>
          <a:blip r:embed="rId1"/>
          <a:srcRect l="39504" t="6806" r="38000" b="10744"/>
          <a:stretch/>
        </p:blipFill>
        <p:spPr>
          <a:xfrm>
            <a:off x="1000080" y="857160"/>
            <a:ext cx="2500200" cy="3500640"/>
          </a:xfrm>
          <a:prstGeom prst="rect">
            <a:avLst/>
          </a:prstGeom>
          <a:ln w="0">
            <a:noFill/>
          </a:ln>
        </p:spPr>
      </p:pic>
      <p:pic>
        <p:nvPicPr>
          <p:cNvPr id="3141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15200" y="36432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Прямоугольник 2"/>
          <p:cNvSpPr/>
          <p:nvPr/>
        </p:nvSpPr>
        <p:spPr>
          <a:xfrm>
            <a:off x="826920" y="692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8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обозначают эти  знак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3" name="Рисунок 4" descr="B1.jpg"/>
          <p:cNvPicPr/>
          <p:nvPr/>
        </p:nvPicPr>
        <p:blipFill>
          <a:blip r:embed="rId1"/>
          <a:stretch/>
        </p:blipFill>
        <p:spPr>
          <a:xfrm>
            <a:off x="1357200" y="1928880"/>
            <a:ext cx="2344680" cy="2052720"/>
          </a:xfrm>
          <a:prstGeom prst="rect">
            <a:avLst/>
          </a:prstGeom>
          <a:ln w="0">
            <a:noFill/>
          </a:ln>
        </p:spPr>
      </p:pic>
      <p:pic>
        <p:nvPicPr>
          <p:cNvPr id="3144" name="Рисунок 6" descr="151923_w640_h640_23.gif"/>
          <p:cNvPicPr/>
          <p:nvPr/>
        </p:nvPicPr>
        <p:blipFill>
          <a:blip r:embed="rId2"/>
          <a:stretch/>
        </p:blipFill>
        <p:spPr>
          <a:xfrm>
            <a:off x="5572080" y="192888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3145" name="Рисунок 7" descr="16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392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1" name=""/>
          <p:cNvGraphicFramePr/>
          <p:nvPr/>
        </p:nvGraphicFramePr>
        <p:xfrm>
          <a:off x="214200" y="189000"/>
          <a:ext cx="8750520" cy="6492960"/>
        </p:xfrm>
        <a:graphic>
          <a:graphicData uri="http://schemas.openxmlformats.org/drawingml/2006/table">
            <a:tbl>
              <a:tblPr/>
              <a:tblGrid>
                <a:gridCol w="2187720"/>
                <a:gridCol w="2187720"/>
                <a:gridCol w="2187360"/>
                <a:gridCol w="2187720"/>
              </a:tblGrid>
              <a:tr h="914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ЩИЕ ПОЛОЖЕНИ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2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3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4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7621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ЯЗАННОСТИ ПЕШЕХОДО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5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6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7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8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70128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ЯЗАННОСТИ ПАССАЖИР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9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0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1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2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Прямоугольник 2"/>
          <p:cNvSpPr/>
          <p:nvPr/>
        </p:nvSpPr>
        <p:spPr>
          <a:xfrm>
            <a:off x="324000" y="692280"/>
            <a:ext cx="864072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Если на перекрестке работает и светофор и регулировщик, чьи требования должны выполнять участники дорожного движ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7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Прямоугольник 2"/>
          <p:cNvSpPr/>
          <p:nvPr/>
        </p:nvSpPr>
        <p:spPr>
          <a:xfrm>
            <a:off x="179280" y="54936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Прямоугольник 3"/>
          <p:cNvSpPr/>
          <p:nvPr/>
        </p:nvSpPr>
        <p:spPr>
          <a:xfrm>
            <a:off x="250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При движении по нерегулируемому перекрестку кто должен уступить дорогу- водитель автомобиля или водитель трамва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0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3920" y="5643720"/>
            <a:ext cx="642960" cy="96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Прямоугольник 2"/>
          <p:cNvSpPr/>
          <p:nvPr/>
        </p:nvSpPr>
        <p:spPr>
          <a:xfrm>
            <a:off x="571680" y="692280"/>
            <a:ext cx="8393040" cy="71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2" name="Рисунок 5" descr="24-15.jpg"/>
          <p:cNvPicPr/>
          <p:nvPr/>
        </p:nvPicPr>
        <p:blipFill>
          <a:blip r:embed="rId1"/>
          <a:stretch/>
        </p:blipFill>
        <p:spPr>
          <a:xfrm>
            <a:off x="1071720" y="1571760"/>
            <a:ext cx="6858000" cy="2571480"/>
          </a:xfrm>
          <a:prstGeom prst="rect">
            <a:avLst/>
          </a:prstGeom>
          <a:ln w="0">
            <a:noFill/>
          </a:ln>
        </p:spPr>
      </p:pic>
      <p:sp>
        <p:nvSpPr>
          <p:cNvPr id="3153" name="Прямоугольник 6"/>
          <p:cNvSpPr/>
          <p:nvPr/>
        </p:nvSpPr>
        <p:spPr>
          <a:xfrm>
            <a:off x="1071720" y="4303800"/>
            <a:ext cx="72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В каком случае водитель автомобиля должен уступить дорогу пешеход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4" name="Рисунок 7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2280" y="5643720"/>
            <a:ext cx="642960" cy="96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Прямоугольник 2"/>
          <p:cNvSpPr/>
          <p:nvPr/>
        </p:nvSpPr>
        <p:spPr>
          <a:xfrm>
            <a:off x="571680" y="476280"/>
            <a:ext cx="839304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Водитель автомобиля собирается повернуть налево. Кому он должен уступить доро</a:t>
            </a: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гу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6" name="Рисунок 5" descr="22-13.jpg"/>
          <p:cNvPicPr/>
          <p:nvPr/>
        </p:nvPicPr>
        <p:blipFill>
          <a:blip r:embed="rId1"/>
          <a:stretch/>
        </p:blipFill>
        <p:spPr>
          <a:xfrm>
            <a:off x="285840" y="1500120"/>
            <a:ext cx="8572320" cy="3214800"/>
          </a:xfrm>
          <a:prstGeom prst="rect">
            <a:avLst/>
          </a:prstGeom>
          <a:ln w="0">
            <a:noFill/>
          </a:ln>
        </p:spPr>
      </p:pic>
      <p:pic>
        <p:nvPicPr>
          <p:cNvPr id="3157" name="Рисунок 6" descr="16a.jpg"/>
          <p:cNvPicPr/>
          <p:nvPr/>
        </p:nvPicPr>
        <p:blipFill>
          <a:blip r:embed="rId2"/>
          <a:stretch/>
        </p:blipFill>
        <p:spPr>
          <a:xfrm>
            <a:off x="8501040" y="58896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8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59" name="Рисунок 2" descr="0dca325a3df8183b04658f64cfeb3c74.jpg"/>
          <p:cNvPicPr/>
          <p:nvPr/>
        </p:nvPicPr>
        <p:blipFill>
          <a:blip r:embed="rId2"/>
          <a:stretch/>
        </p:blipFill>
        <p:spPr>
          <a:xfrm>
            <a:off x="1500120" y="785880"/>
            <a:ext cx="2409840" cy="5691240"/>
          </a:xfrm>
          <a:prstGeom prst="rect">
            <a:avLst/>
          </a:prstGeom>
          <a:ln w="0">
            <a:noFill/>
          </a:ln>
        </p:spPr>
      </p:pic>
      <p:sp>
        <p:nvSpPr>
          <p:cNvPr id="3160" name="TextBox 3"/>
          <p:cNvSpPr/>
          <p:nvPr/>
        </p:nvSpPr>
        <p:spPr>
          <a:xfrm>
            <a:off x="4143240" y="1285920"/>
            <a:ext cx="5000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 какую сторону разрешает движение такой жест регулировщ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1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62" name="Рисунок 2" descr="post-26681-0-37452900-1369904148.jpg"/>
          <p:cNvPicPr/>
          <p:nvPr/>
        </p:nvPicPr>
        <p:blipFill>
          <a:blip r:embed="rId2"/>
          <a:stretch/>
        </p:blipFill>
        <p:spPr>
          <a:xfrm>
            <a:off x="428760" y="1214280"/>
            <a:ext cx="2939760" cy="4286520"/>
          </a:xfrm>
          <a:prstGeom prst="rect">
            <a:avLst/>
          </a:prstGeom>
          <a:ln w="0">
            <a:noFill/>
          </a:ln>
        </p:spPr>
      </p:pic>
      <p:sp>
        <p:nvSpPr>
          <p:cNvPr id="3163" name="TextBox 3"/>
          <p:cNvSpPr/>
          <p:nvPr/>
        </p:nvSpPr>
        <p:spPr>
          <a:xfrm>
            <a:off x="3786120" y="164304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Что обозначает этот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4" name="Рисунок 1" descr="cat.gif"/>
          <p:cNvPicPr/>
          <p:nvPr/>
        </p:nvPicPr>
        <p:blipFill>
          <a:blip r:embed="rId1"/>
          <a:stretch/>
        </p:blipFill>
        <p:spPr>
          <a:xfrm>
            <a:off x="6929280" y="5000760"/>
            <a:ext cx="1881360" cy="1542960"/>
          </a:xfrm>
          <a:prstGeom prst="rect">
            <a:avLst/>
          </a:prstGeom>
          <a:ln w="0">
            <a:noFill/>
          </a:ln>
        </p:spPr>
      </p:pic>
      <p:pic>
        <p:nvPicPr>
          <p:cNvPr id="3165" name="Рисунок 3" descr="910391-2313fb9273fe50dc.jpg"/>
          <p:cNvPicPr/>
          <p:nvPr/>
        </p:nvPicPr>
        <p:blipFill>
          <a:blip r:embed="rId2"/>
          <a:stretch/>
        </p:blipFill>
        <p:spPr>
          <a:xfrm>
            <a:off x="785880" y="928800"/>
            <a:ext cx="7119720" cy="2714400"/>
          </a:xfrm>
          <a:prstGeom prst="rect">
            <a:avLst/>
          </a:prstGeom>
          <a:ln w="0">
            <a:noFill/>
          </a:ln>
        </p:spPr>
      </p:pic>
      <p:sp>
        <p:nvSpPr>
          <p:cNvPr id="3166" name="TextBox 4"/>
          <p:cNvSpPr/>
          <p:nvPr/>
        </p:nvSpPr>
        <p:spPr>
          <a:xfrm>
            <a:off x="785880" y="4071960"/>
            <a:ext cx="6357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 какую сторону автомобиль может продолжить движ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7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68" name="Рисунок 2" descr="uploads_2010_02_12_02_17_03_1.jpg"/>
          <p:cNvPicPr/>
          <p:nvPr/>
        </p:nvPicPr>
        <p:blipFill>
          <a:blip r:embed="rId2"/>
          <a:stretch/>
        </p:blipFill>
        <p:spPr>
          <a:xfrm>
            <a:off x="2286000" y="714240"/>
            <a:ext cx="4675320" cy="3286440"/>
          </a:xfrm>
          <a:prstGeom prst="rect">
            <a:avLst/>
          </a:prstGeom>
          <a:ln w="0">
            <a:noFill/>
          </a:ln>
        </p:spPr>
      </p:pic>
      <p:sp>
        <p:nvSpPr>
          <p:cNvPr id="3169" name="TextBox 3"/>
          <p:cNvSpPr/>
          <p:nvPr/>
        </p:nvSpPr>
        <p:spPr>
          <a:xfrm>
            <a:off x="357120" y="4500720"/>
            <a:ext cx="6143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Для кого предназначен этот светофо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0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sp>
        <p:nvSpPr>
          <p:cNvPr id="3171" name="TextBox 3"/>
          <p:cNvSpPr/>
          <p:nvPr/>
        </p:nvSpPr>
        <p:spPr>
          <a:xfrm>
            <a:off x="3786120" y="164304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Что обозначает этот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2" name="Рисунок 4" descr="3_010.jpg"/>
          <p:cNvPicPr/>
          <p:nvPr/>
        </p:nvPicPr>
        <p:blipFill>
          <a:blip r:embed="rId2"/>
          <a:stretch/>
        </p:blipFill>
        <p:spPr>
          <a:xfrm>
            <a:off x="428760" y="1571760"/>
            <a:ext cx="3071520" cy="30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3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sp>
        <p:nvSpPr>
          <p:cNvPr id="3174" name="TextBox 3"/>
          <p:cNvSpPr/>
          <p:nvPr/>
        </p:nvSpPr>
        <p:spPr>
          <a:xfrm>
            <a:off x="3714840" y="35712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Какой знак обозначает кемпинг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5" name="Рисунок 7" descr="1002.jpg"/>
          <p:cNvPicPr/>
          <p:nvPr/>
        </p:nvPicPr>
        <p:blipFill>
          <a:blip r:embed="rId2"/>
          <a:srcRect l="16142" t="0" r="16142" b="0"/>
          <a:stretch/>
        </p:blipFill>
        <p:spPr>
          <a:xfrm>
            <a:off x="3429000" y="3429000"/>
            <a:ext cx="2000160" cy="2954160"/>
          </a:xfrm>
          <a:prstGeom prst="rect">
            <a:avLst/>
          </a:prstGeom>
          <a:ln w="0">
            <a:noFill/>
          </a:ln>
        </p:spPr>
      </p:pic>
      <p:pic>
        <p:nvPicPr>
          <p:cNvPr id="3176" name="Рисунок 8" descr="1730.gif"/>
          <p:cNvPicPr/>
          <p:nvPr/>
        </p:nvPicPr>
        <p:blipFill>
          <a:blip r:embed="rId3"/>
          <a:stretch/>
        </p:blipFill>
        <p:spPr>
          <a:xfrm>
            <a:off x="571680" y="3429000"/>
            <a:ext cx="2071440" cy="2927520"/>
          </a:xfrm>
          <a:prstGeom prst="rect">
            <a:avLst/>
          </a:prstGeom>
          <a:ln w="0">
            <a:noFill/>
          </a:ln>
        </p:spPr>
      </p:pic>
      <p:pic>
        <p:nvPicPr>
          <p:cNvPr id="3177" name="Рисунок 9" descr="7_9.png"/>
          <p:cNvPicPr/>
          <p:nvPr/>
        </p:nvPicPr>
        <p:blipFill>
          <a:blip r:embed="rId4"/>
          <a:stretch/>
        </p:blipFill>
        <p:spPr>
          <a:xfrm>
            <a:off x="571680" y="285840"/>
            <a:ext cx="2143080" cy="2900160"/>
          </a:xfrm>
          <a:prstGeom prst="rect">
            <a:avLst/>
          </a:prstGeom>
          <a:ln w="0">
            <a:noFill/>
          </a:ln>
        </p:spPr>
      </p:pic>
      <p:pic>
        <p:nvPicPr>
          <p:cNvPr id="3178" name="Прямоугольник 10" descr=""/>
          <p:cNvPicPr/>
          <p:nvPr/>
        </p:nvPicPr>
        <p:blipFill>
          <a:blip r:embed="rId5"/>
          <a:stretch/>
        </p:blipFill>
        <p:spPr>
          <a:xfrm>
            <a:off x="1584360" y="2163600"/>
            <a:ext cx="1287360" cy="1524240"/>
          </a:xfrm>
          <a:prstGeom prst="rect">
            <a:avLst/>
          </a:prstGeom>
          <a:ln w="0">
            <a:noFill/>
          </a:ln>
        </p:spPr>
      </p:pic>
      <p:pic>
        <p:nvPicPr>
          <p:cNvPr id="3179" name="Прямоугольник 12" descr=""/>
          <p:cNvPicPr/>
          <p:nvPr/>
        </p:nvPicPr>
        <p:blipFill>
          <a:blip r:embed="rId6"/>
          <a:stretch/>
        </p:blipFill>
        <p:spPr>
          <a:xfrm>
            <a:off x="1657440" y="5237280"/>
            <a:ext cx="1287360" cy="1517400"/>
          </a:xfrm>
          <a:prstGeom prst="rect">
            <a:avLst/>
          </a:prstGeom>
          <a:ln w="0">
            <a:noFill/>
          </a:ln>
        </p:spPr>
      </p:pic>
      <p:pic>
        <p:nvPicPr>
          <p:cNvPr id="3180" name="Прямоугольник 13" descr=""/>
          <p:cNvPicPr/>
          <p:nvPr/>
        </p:nvPicPr>
        <p:blipFill>
          <a:blip r:embed="rId7"/>
          <a:stretch/>
        </p:blipFill>
        <p:spPr>
          <a:xfrm>
            <a:off x="4443480" y="5237280"/>
            <a:ext cx="1287360" cy="15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TextBox 7"/>
          <p:cNvSpPr/>
          <p:nvPr/>
        </p:nvSpPr>
        <p:spPr>
          <a:xfrm>
            <a:off x="324000" y="270828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TextBox 1"/>
          <p:cNvSpPr/>
          <p:nvPr/>
        </p:nvSpPr>
        <p:spPr>
          <a:xfrm>
            <a:off x="357120" y="0"/>
            <a:ext cx="8143920" cy="87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писок использованных источни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ttp://pddmaster.ru/documents/pdd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- правила дорожн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светофора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images.yandex.ru/yandsearch?text=%D1%81%D0%B2%D0%B5%D1%82%D0%BE%D1%84%D0%BE%D1%80&amp;fp=0&amp;img_url=http%3A%2F%2Fcs403527.userapi.com%2Fg40611363%2Fe_b4e8b2a8.jpg&amp;pos=3&amp;uinfo=ww-998-wh-591-fw-773-fh-448-pd-1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кота в мешке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images.yandex.ru/yandsearch?text=%D0%BA%D0%BE%D1%82%20%D0%B2%20%D0%BC%D0%B5%D1%88%D0%BA%D0%B5&amp;fp=0&amp;img_url=http%3A%2F%2F4.bp.blogspot.com%2F_SJm3-n4SO0o%2FTKG5KDurxzI%2FAAAAAAAAE8s%2Fp5xUyO8kb7Y%2Fs1600%2F1.JPG&amp;pos=0&amp;uinfo=ww-998-wh-591-fw-773-fh-448-pd-1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знаков дорожного движения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kuruh.ru/dorzn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дорожных ситуаций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avto-russia.ru/pd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ВТОРОЙ</a:t>
            </a:r>
            <a:r>
              <a:rPr b="1" lang="en-US" sz="80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6" name=""/>
          <p:cNvGraphicFramePr/>
          <p:nvPr/>
        </p:nvGraphicFramePr>
        <p:xfrm>
          <a:off x="250920" y="189000"/>
          <a:ext cx="8569080" cy="6721560"/>
        </p:xfrm>
        <a:graphic>
          <a:graphicData uri="http://schemas.openxmlformats.org/drawingml/2006/table">
            <a:tbl>
              <a:tblPr/>
              <a:tblGrid>
                <a:gridCol w="2141280"/>
                <a:gridCol w="2143440"/>
                <a:gridCol w="2141280"/>
                <a:gridCol w="2143080"/>
              </a:tblGrid>
              <a:tr h="1310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ВИЖЕНИЕ ВЕЛОСИПЕДОВ, ПОВОЗОК, МОПЕД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2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914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НАКИ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6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7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8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8229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ЕЗД ПЕРЕКРЕСТКО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9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0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1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2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ТРЕТИЙ 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TextBox 3"/>
          <p:cNvSpPr/>
          <p:nvPr/>
        </p:nvSpPr>
        <p:spPr>
          <a:xfrm>
            <a:off x="1357200" y="642960"/>
            <a:ext cx="67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КОТ В МЕШ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0" name="Рисунок 4" descr="ca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143080"/>
            <a:ext cx="1738080" cy="1425600"/>
          </a:xfrm>
          <a:prstGeom prst="rect">
            <a:avLst/>
          </a:prstGeom>
          <a:ln w="0">
            <a:noFill/>
          </a:ln>
        </p:spPr>
      </p:pic>
      <p:pic>
        <p:nvPicPr>
          <p:cNvPr id="3081" name="Рисунок 5" descr="cat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1720" y="4357800"/>
            <a:ext cx="1738080" cy="1425600"/>
          </a:xfrm>
          <a:prstGeom prst="rect">
            <a:avLst/>
          </a:prstGeom>
          <a:ln w="0">
            <a:noFill/>
          </a:ln>
        </p:spPr>
      </p:pic>
      <p:pic>
        <p:nvPicPr>
          <p:cNvPr id="3082" name="Рисунок 6" descr="cat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71960" y="4429080"/>
            <a:ext cx="1738440" cy="1425600"/>
          </a:xfrm>
          <a:prstGeom prst="rect">
            <a:avLst/>
          </a:prstGeom>
          <a:ln w="0">
            <a:noFill/>
          </a:ln>
        </p:spPr>
      </p:pic>
      <p:pic>
        <p:nvPicPr>
          <p:cNvPr id="3083" name="Рисунок 7" descr="cat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29280" y="4500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4" name="Рисунок 8" descr="cat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71960" y="2214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5" name="Рисунок 9" descr="cat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0" y="2214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6" name="Прямоугольник 10" descr=""/>
          <p:cNvPicPr/>
          <p:nvPr/>
        </p:nvPicPr>
        <p:blipFill>
          <a:blip r:embed="rId13"/>
          <a:stretch/>
        </p:blipFill>
        <p:spPr>
          <a:xfrm>
            <a:off x="1871640" y="2444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7" name="Прямоугольник 11" descr=""/>
          <p:cNvPicPr/>
          <p:nvPr/>
        </p:nvPicPr>
        <p:blipFill>
          <a:blip r:embed="rId14"/>
          <a:stretch/>
        </p:blipFill>
        <p:spPr>
          <a:xfrm>
            <a:off x="7729560" y="4730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8" name="Прямоугольник 12" descr=""/>
          <p:cNvPicPr/>
          <p:nvPr/>
        </p:nvPicPr>
        <p:blipFill>
          <a:blip r:embed="rId15"/>
          <a:stretch/>
        </p:blipFill>
        <p:spPr>
          <a:xfrm>
            <a:off x="4870440" y="4730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9" name="Прямоугольник 13" descr=""/>
          <p:cNvPicPr/>
          <p:nvPr/>
        </p:nvPicPr>
        <p:blipFill>
          <a:blip r:embed="rId16"/>
          <a:stretch/>
        </p:blipFill>
        <p:spPr>
          <a:xfrm>
            <a:off x="1871640" y="46641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90" name="Прямоугольник 14" descr=""/>
          <p:cNvPicPr/>
          <p:nvPr/>
        </p:nvPicPr>
        <p:blipFill>
          <a:blip r:embed="rId17"/>
          <a:stretch/>
        </p:blipFill>
        <p:spPr>
          <a:xfrm>
            <a:off x="7656480" y="251784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91" name="Прямоугольник 15" descr=""/>
          <p:cNvPicPr/>
          <p:nvPr/>
        </p:nvPicPr>
        <p:blipFill>
          <a:blip r:embed="rId18"/>
          <a:stretch/>
        </p:blipFill>
        <p:spPr>
          <a:xfrm>
            <a:off x="4870440" y="2517840"/>
            <a:ext cx="1285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TextBox 7"/>
          <p:cNvSpPr/>
          <p:nvPr/>
        </p:nvSpPr>
        <p:spPr>
          <a:xfrm>
            <a:off x="0" y="285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МОЛОДЦЫ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5:26:47Z</dcterms:created>
  <dc:creator>U.R.</dc:creator>
  <dc:description/>
  <dc:language>en-US</dc:language>
  <cp:lastModifiedBy>Турова Жанна</cp:lastModifiedBy>
  <dcterms:modified xsi:type="dcterms:W3CDTF">2022-11-13T20:00:08Z</dcterms:modified>
  <cp:revision>93</cp:revision>
  <dc:subject/>
  <dc:title>Слайд 1</dc:title>
</cp:coreProperties>
</file>